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51E6-BA2B-4208-B8FB-BCA8EB9C9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5E44-74EF-4EF4-A81C-BDAA8DA0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09E0-C6E6-47B8-A250-61D54BB4E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C306-9405-4DF7-82F7-2D402CC6C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E396-D8F7-4029-9BEE-697C6AB5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A63B-5BF8-42D0-843C-0F041A9D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81CE-C959-4358-98B0-B577797E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23B2-FCC9-46D0-A5CE-9CA858F8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D724-0082-425B-A11F-C8FEA206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9919-BBD0-4C9E-AE49-A9E0920A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F066-393E-4533-8B53-15672BD3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3D6E-2B70-4233-AAA2-D3E62F22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965E-EBB1-4986-88D5-CFC9C22D0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0.wmf"/><Relationship Id="rId2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7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8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9.wmf"/><Relationship Id="rId3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7.wmf"/><Relationship Id="rId2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6.wmf"/><Relationship Id="rId2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3.wmf"/><Relationship Id="rId2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9.wmf"/><Relationship Id="rId2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7.wmf"/><Relationship Id="rId2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7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4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3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7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58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6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47.wmf"/><Relationship Id="rId4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n Absolute-Value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80880" y="1523880"/>
          <a:ext cx="256248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3880"/>
                    <a:ext cx="2562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414360" y="2465280"/>
          <a:ext cx="1560600" cy="6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360" y="2465280"/>
                    <a:ext cx="15606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1981080" y="2438280"/>
          <a:ext cx="1949400" cy="66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438280"/>
                    <a:ext cx="19494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04920" y="3200400"/>
          <a:ext cx="356364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3200400"/>
                    <a:ext cx="356364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838080" y="4114800"/>
          <a:ext cx="244980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8080" y="4114800"/>
                    <a:ext cx="24498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733920" y="4114800"/>
          <a:ext cx="283824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33920" y="4114800"/>
                    <a:ext cx="28382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1447920" y="4648320"/>
          <a:ext cx="89064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47920" y="464832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2438280" y="4648320"/>
          <a:ext cx="890640" cy="668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438280" y="464832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343400" y="4648320"/>
          <a:ext cx="890640" cy="668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343400" y="464832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5715000" y="4648320"/>
          <a:ext cx="890640" cy="668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715000" y="464832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838080" y="533412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62520" y="533412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676520" y="5486400"/>
          <a:ext cx="556920" cy="557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676520" y="5486400"/>
                    <a:ext cx="556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2209680" y="5410080"/>
          <a:ext cx="1059120" cy="668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209680" y="5410080"/>
                    <a:ext cx="105912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648320" y="5486400"/>
          <a:ext cx="556920" cy="557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648320" y="5486400"/>
                    <a:ext cx="556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5181480" y="5334120"/>
          <a:ext cx="1393920" cy="6681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181480" y="5334120"/>
                    <a:ext cx="13939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n Absolute-Value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1920" y="1523880"/>
          <a:ext cx="389736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" y="1523880"/>
                    <a:ext cx="389736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457200" y="2438280"/>
          <a:ext cx="2840040" cy="6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438280"/>
                    <a:ext cx="284004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3962520" y="2438280"/>
          <a:ext cx="3171600" cy="66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2438280"/>
                    <a:ext cx="31716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1371600" y="2971800"/>
          <a:ext cx="890640" cy="66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29718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2362320" y="2971800"/>
          <a:ext cx="89064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62320" y="29718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4876920" y="2971800"/>
          <a:ext cx="89064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6920" y="29718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6248520" y="2971800"/>
          <a:ext cx="89064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48520" y="29718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76212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9568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371600" y="3733920"/>
          <a:ext cx="890640" cy="668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371600" y="373392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09680" y="3733920"/>
          <a:ext cx="1393920" cy="668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209680" y="3733920"/>
                    <a:ext cx="13939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4952880" y="3733920"/>
          <a:ext cx="892440" cy="668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952880" y="3733920"/>
                    <a:ext cx="8924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791320" y="3733920"/>
          <a:ext cx="1449360" cy="668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791320" y="3733920"/>
                    <a:ext cx="144936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447920" y="4343400"/>
            <a:ext cx="68580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4343400"/>
            <a:ext cx="68580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4343400"/>
            <a:ext cx="68580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77120" y="4343400"/>
            <a:ext cx="68580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60600" y="4343400"/>
          <a:ext cx="557280" cy="668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560600" y="43434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895480" y="4343400"/>
          <a:ext cx="557280" cy="668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895480" y="43434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181480" y="4343400"/>
          <a:ext cx="557280" cy="6681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181480" y="43434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6553080" y="4343400"/>
          <a:ext cx="557280" cy="6681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553080" y="43434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600200" y="5181480"/>
          <a:ext cx="557280" cy="557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600200" y="5181480"/>
                    <a:ext cx="5572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2209680" y="5029200"/>
          <a:ext cx="1059120" cy="6699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209680" y="5029200"/>
                    <a:ext cx="105912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5334120" y="5181480"/>
          <a:ext cx="556920" cy="5572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5334120" y="5181480"/>
                    <a:ext cx="556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5867280" y="5029200"/>
          <a:ext cx="1449360" cy="66996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5867280" y="5029200"/>
                    <a:ext cx="144936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n Absolute-Value In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30040" y="1523880"/>
          <a:ext cx="356256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523880"/>
                    <a:ext cx="356256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838080" y="2438280"/>
          <a:ext cx="2449800" cy="6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438280"/>
                    <a:ext cx="24498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4876920" y="2438280"/>
          <a:ext cx="2838240" cy="66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2438280"/>
                    <a:ext cx="283824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447920" y="2971800"/>
          <a:ext cx="890640" cy="66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7920" y="29718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2438280" y="2971800"/>
          <a:ext cx="89064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38280" y="29718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5486400" y="2971800"/>
          <a:ext cx="89064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29718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858000" y="2971800"/>
          <a:ext cx="89064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58000" y="29718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83808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0552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676520" y="3809880"/>
          <a:ext cx="556920" cy="557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3809880"/>
                    <a:ext cx="556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2209680" y="3733920"/>
          <a:ext cx="557280" cy="612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209680" y="3733920"/>
                    <a:ext cx="5572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5791320" y="3809880"/>
          <a:ext cx="556920" cy="557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791320" y="3809880"/>
                    <a:ext cx="556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6324480" y="3733920"/>
          <a:ext cx="557280" cy="612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24480" y="3733920"/>
                    <a:ext cx="5572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3657600" y="2438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295280" y="5410080"/>
            <a:ext cx="5714640" cy="825480"/>
            <a:chOff x="1295280" y="5410080"/>
            <a:chExt cx="5714640" cy="825480"/>
          </a:xfrm>
        </p:grpSpPr>
        <p:sp>
          <p:nvSpPr>
            <p:cNvPr id="150" name=""/>
            <p:cNvSpPr/>
            <p:nvPr/>
          </p:nvSpPr>
          <p:spPr>
            <a:xfrm>
              <a:off x="1295280" y="5638680"/>
              <a:ext cx="571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65560" y="5410080"/>
              <a:ext cx="537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l        l        l        l       l        l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219320" y="57150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     1       2       3      4      5      6     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33720" y="5486400"/>
            <a:ext cx="304560" cy="30492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437920" y="5638680"/>
            <a:ext cx="259092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5486400"/>
            <a:ext cx="304920" cy="30492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743200" y="3733920"/>
          <a:ext cx="501480" cy="668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743200" y="3733920"/>
                    <a:ext cx="5014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7010280" y="3733920"/>
          <a:ext cx="446040" cy="668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010280" y="3733920"/>
                    <a:ext cx="4460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2514600" y="4572000"/>
          <a:ext cx="2397240" cy="6681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514600" y="4572000"/>
                    <a:ext cx="23972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n Absolute-Value In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85840" y="1523880"/>
          <a:ext cx="345096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523880"/>
                    <a:ext cx="345096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865080" y="2438280"/>
          <a:ext cx="2394000" cy="6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5080" y="2438280"/>
                    <a:ext cx="23940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903920" y="2438280"/>
          <a:ext cx="2782800" cy="66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03920" y="2438280"/>
                    <a:ext cx="27828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57200" y="2971800"/>
          <a:ext cx="890640" cy="66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29718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2438280" y="2971800"/>
          <a:ext cx="89064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38280" y="29718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495680" y="2971800"/>
          <a:ext cx="89064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95680" y="29718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6858000" y="2971800"/>
          <a:ext cx="89064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58000" y="29718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83808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0552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676520" y="3809880"/>
          <a:ext cx="556920" cy="557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3809880"/>
                    <a:ext cx="556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2209680" y="3733920"/>
          <a:ext cx="557280" cy="668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209680" y="373392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5791320" y="3809880"/>
          <a:ext cx="556920" cy="557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791320" y="3809880"/>
                    <a:ext cx="556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6248520" y="3733920"/>
          <a:ext cx="556920" cy="668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248520" y="3733920"/>
                    <a:ext cx="5569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3657600" y="2438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990720" y="5334120"/>
            <a:ext cx="6781320" cy="459720"/>
            <a:chOff x="990720" y="5334120"/>
            <a:chExt cx="6781320" cy="459720"/>
          </a:xfrm>
        </p:grpSpPr>
        <p:sp>
          <p:nvSpPr>
            <p:cNvPr id="191" name=""/>
            <p:cNvSpPr/>
            <p:nvPr/>
          </p:nvSpPr>
          <p:spPr>
            <a:xfrm>
              <a:off x="990720" y="5562720"/>
              <a:ext cx="6781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92680" y="5334120"/>
              <a:ext cx="637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l        l        l        l       l        l       l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914400" y="56386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12   -11   -10    -9     -8    -7     -6     -5    -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28800" y="5410080"/>
            <a:ext cx="304920" cy="304920"/>
          </a:xfrm>
          <a:prstGeom prst="ellipse">
            <a:avLst/>
          </a:prstGeom>
          <a:solidFill>
            <a:srgbClr val="3333cc"/>
          </a:solidFill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133720" y="5562720"/>
            <a:ext cx="40384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72200" y="5410080"/>
            <a:ext cx="304920" cy="304920"/>
          </a:xfrm>
          <a:prstGeom prst="ellipse">
            <a:avLst/>
          </a:prstGeom>
          <a:solidFill>
            <a:srgbClr val="3333cc"/>
          </a:solidFill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666880" y="3733920"/>
          <a:ext cx="890640" cy="668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666880" y="373392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6781680" y="3733920"/>
          <a:ext cx="1170000" cy="668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781680" y="3733920"/>
                    <a:ext cx="11700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2438280" y="4648320"/>
          <a:ext cx="3565800" cy="6681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438280" y="4648320"/>
                    <a:ext cx="35658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n Absolute-Value In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19160" y="1523880"/>
          <a:ext cx="378612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160" y="1523880"/>
                    <a:ext cx="378612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496800" y="2438280"/>
          <a:ext cx="2673360" cy="6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6800" y="2438280"/>
                    <a:ext cx="267336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4737240" y="2438280"/>
          <a:ext cx="3116160" cy="66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37240" y="2438280"/>
                    <a:ext cx="311616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066680" y="2971800"/>
          <a:ext cx="1279800" cy="66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2971800"/>
                    <a:ext cx="12798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2362320" y="2971800"/>
          <a:ext cx="127944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62320" y="2971800"/>
                    <a:ext cx="12794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5257800" y="2971800"/>
          <a:ext cx="127944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57800" y="2971800"/>
                    <a:ext cx="12794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7010280" y="2971800"/>
          <a:ext cx="127980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010280" y="2971800"/>
                    <a:ext cx="12798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60948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10552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676520" y="3809880"/>
          <a:ext cx="556920" cy="557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3809880"/>
                    <a:ext cx="556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2133720" y="3657600"/>
          <a:ext cx="558720" cy="612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133720" y="3657600"/>
                    <a:ext cx="558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5867280" y="3809880"/>
          <a:ext cx="557280" cy="557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867280" y="3809880"/>
                    <a:ext cx="5572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6400800" y="3657600"/>
          <a:ext cx="558720" cy="612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400800" y="3657600"/>
                    <a:ext cx="558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3657600" y="2438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5410080"/>
            <a:ext cx="5714640" cy="825480"/>
            <a:chOff x="1295280" y="5410080"/>
            <a:chExt cx="5714640" cy="825480"/>
          </a:xfrm>
        </p:grpSpPr>
        <p:sp>
          <p:nvSpPr>
            <p:cNvPr id="232" name=""/>
            <p:cNvSpPr/>
            <p:nvPr/>
          </p:nvSpPr>
          <p:spPr>
            <a:xfrm>
              <a:off x="1295280" y="5638680"/>
              <a:ext cx="571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65560" y="5410080"/>
              <a:ext cx="537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l        l        l        l       l        l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219320" y="57150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               1              2             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5486400"/>
            <a:ext cx="304920" cy="30492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200040" y="5638680"/>
            <a:ext cx="259092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91320" y="5486400"/>
            <a:ext cx="304560" cy="30492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743200" y="3657600"/>
          <a:ext cx="949320" cy="668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743200" y="3657600"/>
                    <a:ext cx="9493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7010280" y="3733920"/>
          <a:ext cx="893880" cy="668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010280" y="3733920"/>
                    <a:ext cx="8938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2666880" y="4648320"/>
          <a:ext cx="3351240" cy="6681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666880" y="4648320"/>
                    <a:ext cx="33512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n Absolute-Value In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257040" y="1523880"/>
          <a:ext cx="350856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040" y="1523880"/>
                    <a:ext cx="350856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838080" y="2438280"/>
          <a:ext cx="2395800" cy="6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438280"/>
                    <a:ext cx="23958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4875120" y="2438280"/>
          <a:ext cx="2840040" cy="66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5120" y="2438280"/>
                    <a:ext cx="284004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1371600" y="2971800"/>
          <a:ext cx="944640" cy="66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2971800"/>
                    <a:ext cx="944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2362320" y="2971800"/>
          <a:ext cx="94608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62320" y="2971800"/>
                    <a:ext cx="9460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5486400" y="2971800"/>
          <a:ext cx="94608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2971800"/>
                    <a:ext cx="9460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6858000" y="2971800"/>
          <a:ext cx="94608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58000" y="2971800"/>
                    <a:ext cx="9460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60948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0552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676520" y="3809880"/>
          <a:ext cx="556920" cy="557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3809880"/>
                    <a:ext cx="556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2209680" y="3657600"/>
          <a:ext cx="557280" cy="668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209680" y="36576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5867280" y="3809880"/>
          <a:ext cx="557280" cy="557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867280" y="3809880"/>
                    <a:ext cx="5572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6324480" y="3657600"/>
          <a:ext cx="557280" cy="668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24480" y="36576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/>
          <p:nvPr/>
        </p:nvSpPr>
        <p:spPr>
          <a:xfrm>
            <a:off x="3733920" y="2438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295280" y="4952880"/>
            <a:ext cx="5714640" cy="825480"/>
            <a:chOff x="1295280" y="4952880"/>
            <a:chExt cx="5714640" cy="825480"/>
          </a:xfrm>
        </p:grpSpPr>
        <p:sp>
          <p:nvSpPr>
            <p:cNvPr id="273" name=""/>
            <p:cNvSpPr/>
            <p:nvPr/>
          </p:nvSpPr>
          <p:spPr>
            <a:xfrm>
              <a:off x="1295280" y="5181480"/>
              <a:ext cx="571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465560" y="4952880"/>
              <a:ext cx="537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l        l        l        l       l        l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219320" y="52578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5    -4      -3     -2     -1     0       1     2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95480" y="5029200"/>
            <a:ext cx="304920" cy="304920"/>
          </a:xfrm>
          <a:prstGeom prst="ellipse">
            <a:avLst/>
          </a:prstGeom>
          <a:solidFill>
            <a:srgbClr val="3333cc"/>
          </a:solidFill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43400" y="5029200"/>
            <a:ext cx="304920" cy="304920"/>
          </a:xfrm>
          <a:prstGeom prst="ellipse">
            <a:avLst/>
          </a:prstGeom>
          <a:solidFill>
            <a:srgbClr val="3333cc"/>
          </a:solidFill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219320" y="5181480"/>
            <a:ext cx="5790960" cy="0"/>
            <a:chOff x="1219320" y="5181480"/>
            <a:chExt cx="5790960" cy="0"/>
          </a:xfrm>
        </p:grpSpPr>
        <p:sp>
          <p:nvSpPr>
            <p:cNvPr id="279" name=""/>
            <p:cNvSpPr/>
            <p:nvPr/>
          </p:nvSpPr>
          <p:spPr>
            <a:xfrm flipH="1">
              <a:off x="1219320" y="5181480"/>
              <a:ext cx="167616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648320" y="5181480"/>
              <a:ext cx="236196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81" name=""/>
          <p:cNvGraphicFramePr/>
          <p:nvPr/>
        </p:nvGraphicFramePr>
        <p:xfrm>
          <a:off x="2590920" y="3657600"/>
          <a:ext cx="836640" cy="668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590920" y="3657600"/>
                    <a:ext cx="836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6843600" y="3657600"/>
          <a:ext cx="890640" cy="668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843600" y="36576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n Absolute-Value In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30040" y="1523880"/>
          <a:ext cx="356400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523880"/>
                    <a:ext cx="35640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782640" y="2438280"/>
          <a:ext cx="2506680" cy="6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2640" y="2438280"/>
                    <a:ext cx="250668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4848120" y="2438280"/>
          <a:ext cx="2895840" cy="66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48120" y="2438280"/>
                    <a:ext cx="289584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1371600" y="2971800"/>
          <a:ext cx="944640" cy="66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2971800"/>
                    <a:ext cx="944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2362320" y="2971800"/>
          <a:ext cx="94608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62320" y="2971800"/>
                    <a:ext cx="9460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5410080" y="2971800"/>
          <a:ext cx="94644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2971800"/>
                    <a:ext cx="9464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6781680" y="2971800"/>
          <a:ext cx="94644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781680" y="2971800"/>
                    <a:ext cx="9464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60948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0552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1676520" y="3809880"/>
          <a:ext cx="556920" cy="557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3809880"/>
                    <a:ext cx="556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2133720" y="3733920"/>
          <a:ext cx="556920" cy="668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133720" y="3733920"/>
                    <a:ext cx="5569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867280" y="3809880"/>
          <a:ext cx="557280" cy="557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867280" y="3809880"/>
                    <a:ext cx="5572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6324480" y="3733920"/>
          <a:ext cx="559080" cy="668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24480" y="3733920"/>
                    <a:ext cx="5590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3733920" y="2438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1295280" y="4952880"/>
            <a:ext cx="5714640" cy="825480"/>
            <a:chOff x="1295280" y="4952880"/>
            <a:chExt cx="5714640" cy="825480"/>
          </a:xfrm>
        </p:grpSpPr>
        <p:sp>
          <p:nvSpPr>
            <p:cNvPr id="314" name=""/>
            <p:cNvSpPr/>
            <p:nvPr/>
          </p:nvSpPr>
          <p:spPr>
            <a:xfrm>
              <a:off x="1295280" y="5181480"/>
              <a:ext cx="571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65560" y="4952880"/>
              <a:ext cx="537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l        l        l        l       l        l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1219320" y="52578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      1      2      3      4      5       6     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95480" y="5029200"/>
            <a:ext cx="304920" cy="304920"/>
          </a:xfrm>
          <a:prstGeom prst="ellipse">
            <a:avLst/>
          </a:prstGeom>
          <a:solidFill>
            <a:srgbClr val="3333cc"/>
          </a:solidFill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91320" y="5029200"/>
            <a:ext cx="304560" cy="304920"/>
          </a:xfrm>
          <a:prstGeom prst="ellipse">
            <a:avLst/>
          </a:prstGeom>
          <a:solidFill>
            <a:srgbClr val="3333cc"/>
          </a:solidFill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219320" y="5181480"/>
            <a:ext cx="5790960" cy="0"/>
            <a:chOff x="1219320" y="5181480"/>
            <a:chExt cx="5790960" cy="0"/>
          </a:xfrm>
        </p:grpSpPr>
        <p:sp>
          <p:nvSpPr>
            <p:cNvPr id="320" name=""/>
            <p:cNvSpPr/>
            <p:nvPr/>
          </p:nvSpPr>
          <p:spPr>
            <a:xfrm flipH="1">
              <a:off x="1219320" y="5181480"/>
              <a:ext cx="167616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95880" y="5181480"/>
              <a:ext cx="91440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22" name=""/>
          <p:cNvGraphicFramePr/>
          <p:nvPr/>
        </p:nvGraphicFramePr>
        <p:xfrm>
          <a:off x="2590920" y="3733920"/>
          <a:ext cx="501480" cy="668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590920" y="3733920"/>
                    <a:ext cx="5014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6934320" y="3733920"/>
          <a:ext cx="558720" cy="668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934320" y="3733920"/>
                    <a:ext cx="5587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n Absolute-Value In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17360" y="1523880"/>
          <a:ext cx="378648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60" y="1523880"/>
                    <a:ext cx="3786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539640" y="2438280"/>
          <a:ext cx="2673360" cy="6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2438280"/>
                    <a:ext cx="267336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4703760" y="2438280"/>
          <a:ext cx="3060720" cy="66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03760" y="2438280"/>
                    <a:ext cx="306072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1398600" y="2971800"/>
          <a:ext cx="834840" cy="66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98600" y="2971800"/>
                    <a:ext cx="8348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2389320" y="2971800"/>
          <a:ext cx="83484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89320" y="2971800"/>
                    <a:ext cx="8348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5589720" y="2971800"/>
          <a:ext cx="83484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89720" y="2971800"/>
                    <a:ext cx="8348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6961320" y="2971800"/>
          <a:ext cx="83484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61320" y="2971800"/>
                    <a:ext cx="8348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76212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8148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371600" y="3733920"/>
          <a:ext cx="890640" cy="668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371600" y="373392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2209680" y="3809880"/>
          <a:ext cx="557280" cy="612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209680" y="3809880"/>
                    <a:ext cx="5572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5638680" y="3733920"/>
          <a:ext cx="892440" cy="668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638680" y="3733920"/>
                    <a:ext cx="8924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6477120" y="3809880"/>
          <a:ext cx="556920" cy="612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477120" y="3809880"/>
                    <a:ext cx="5569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1447920" y="4343400"/>
            <a:ext cx="68580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819520" y="4343400"/>
            <a:ext cx="68580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15000" y="4343400"/>
            <a:ext cx="68580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162920" y="4343400"/>
            <a:ext cx="68580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560600" y="4343400"/>
          <a:ext cx="557280" cy="668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560600" y="43434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2895480" y="4343400"/>
          <a:ext cx="557280" cy="668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895480" y="43434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867280" y="4343400"/>
          <a:ext cx="557280" cy="6681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867280" y="43434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7238880" y="4343400"/>
          <a:ext cx="557280" cy="6681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238880" y="43434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1600200" y="5181480"/>
          <a:ext cx="557280" cy="557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600200" y="5181480"/>
                    <a:ext cx="5572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2133720" y="5105520"/>
          <a:ext cx="558720" cy="6141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133720" y="5105520"/>
                    <a:ext cx="55872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6019920" y="5181480"/>
          <a:ext cx="556920" cy="5572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019920" y="5181480"/>
                    <a:ext cx="556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6477120" y="5105520"/>
          <a:ext cx="556920" cy="61416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477120" y="5105520"/>
                    <a:ext cx="55692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3733920" y="2438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00200" y="5715000"/>
            <a:ext cx="5714640" cy="825480"/>
            <a:chOff x="1600200" y="5715000"/>
            <a:chExt cx="5714640" cy="825480"/>
          </a:xfrm>
        </p:grpSpPr>
        <p:sp>
          <p:nvSpPr>
            <p:cNvPr id="375" name=""/>
            <p:cNvSpPr/>
            <p:nvPr/>
          </p:nvSpPr>
          <p:spPr>
            <a:xfrm>
              <a:off x="1600200" y="5943600"/>
              <a:ext cx="571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70480" y="5715000"/>
              <a:ext cx="537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l        l        l        l       l        l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1523880" y="60199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4     -3     -2     -1      0     1      2     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00400" y="5791320"/>
            <a:ext cx="304920" cy="30456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334120" y="5791320"/>
            <a:ext cx="304560" cy="30456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523520" y="5943600"/>
            <a:ext cx="5791680" cy="0"/>
            <a:chOff x="1523520" y="5943600"/>
            <a:chExt cx="5791680" cy="0"/>
          </a:xfrm>
        </p:grpSpPr>
        <p:sp>
          <p:nvSpPr>
            <p:cNvPr id="381" name=""/>
            <p:cNvSpPr/>
            <p:nvPr/>
          </p:nvSpPr>
          <p:spPr>
            <a:xfrm flipH="1">
              <a:off x="1523520" y="5943600"/>
              <a:ext cx="167652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38680" y="5943600"/>
              <a:ext cx="167652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83" name=""/>
          <p:cNvGraphicFramePr/>
          <p:nvPr/>
        </p:nvGraphicFramePr>
        <p:xfrm>
          <a:off x="2819520" y="3733920"/>
          <a:ext cx="556920" cy="66996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819520" y="3733920"/>
                    <a:ext cx="55692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6934320" y="3733920"/>
          <a:ext cx="947520" cy="66816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6934320" y="3733920"/>
                    <a:ext cx="9475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2819520" y="5105520"/>
          <a:ext cx="447480" cy="6699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819520" y="5105520"/>
                    <a:ext cx="4474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"/>
          <p:cNvGraphicFramePr/>
          <p:nvPr/>
        </p:nvGraphicFramePr>
        <p:xfrm>
          <a:off x="6934320" y="5029200"/>
          <a:ext cx="947520" cy="67140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934320" y="5029200"/>
                    <a:ext cx="94752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22:36:43Z</dcterms:created>
  <dc:creator>Teacher</dc:creator>
  <dc:description/>
  <dc:language>en-US</dc:language>
  <cp:lastModifiedBy>damon.skelton</cp:lastModifiedBy>
  <dcterms:modified xsi:type="dcterms:W3CDTF">2005-11-09T13:40:29Z</dcterms:modified>
  <cp:revision>56</cp:revision>
  <dc:subject/>
  <dc:title>PowerPoint Presentation</dc:title>
</cp:coreProperties>
</file>